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51675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6BF8-C51C-4596-BA52-518BA959D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69F4-6340-45E0-A348-5421DC33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6C73-B80C-4944-A24C-C3300E441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6347-750D-4BE1-AE58-4DF2C23BF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F147-563B-491E-970E-79E661BA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6BCA-28DA-40E6-8597-F91A7A29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E304-3659-40A3-98DA-9928BA46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6D76-1586-46FE-BC9F-C285D7C9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1F85-1C0D-4D13-9A80-B55A1299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F33F-6C30-4A7A-9DCB-0F830370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97C3-933C-44BC-8046-99AD750E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624E-27F4-44E1-B3F9-EB47005C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1F2F-DAE8-4C81-A132-3E6F0565B5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-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4"/>
          <p:cNvSpPr/>
          <p:nvPr/>
        </p:nvSpPr>
        <p:spPr>
          <a:xfrm>
            <a:off x="250920" y="2349360"/>
            <a:ext cx="748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ОЈЕ. АНТИОКСИДАНТИ. КОНЗЕРВАНСИ. ЗАСЛАЂИВАЧИ. ПОВРШИНСКИ АКТИВНЕ МАТЕРИЈЕ. АРОМЕ. НИТРАТИ И НИТРИТИ. ФОСФА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TextBox 15" descr=""/>
          <p:cNvPicPr/>
          <p:nvPr/>
        </p:nvPicPr>
        <p:blipFill>
          <a:blip r:embed="rId1"/>
          <a:stretch/>
        </p:blipFill>
        <p:spPr>
          <a:xfrm>
            <a:off x="8096400" y="1176480"/>
            <a:ext cx="749160" cy="4425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Резултат слика за logo fakulteta medicinskih nauka"/>
          <p:cNvPicPr/>
          <p:nvPr/>
        </p:nvPicPr>
        <p:blipFill>
          <a:blip r:embed="rId2"/>
          <a:stretch/>
        </p:blipFill>
        <p:spPr>
          <a:xfrm>
            <a:off x="7380360" y="9360"/>
            <a:ext cx="1763640" cy="1258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Резултат слика за logo univerziteta u kragujevcu"/>
          <p:cNvPicPr/>
          <p:nvPr/>
        </p:nvPicPr>
        <p:blipFill>
          <a:blip r:embed="rId3"/>
          <a:stretch/>
        </p:blipFill>
        <p:spPr>
          <a:xfrm>
            <a:off x="7380360" y="5589720"/>
            <a:ext cx="1763640" cy="12682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1692360" y="5877000"/>
            <a:ext cx="561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ц. др Душан Љ. Томо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мет:</a:t>
            </a:r>
            <a:r>
              <a:rPr b="1" lang="sr-C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9-</a:t>
            </a:r>
            <a:r>
              <a:rPr b="1" lang="sr-C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роматолог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132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Box 24"/>
          <p:cNvSpPr/>
          <p:nvPr/>
        </p:nvSpPr>
        <p:spPr>
          <a:xfrm>
            <a:off x="468360" y="1971720"/>
            <a:ext cx="813600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ОЦИЈ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оцијани су хетерозиди који се разлажу под дејством киселина и ензима и дају агликон антоцијанид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 од структуре и рН вредности, показују нијансе плаве, љубичасте, ружичасте или црвено-љубичасте бо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јају се екстракцијом из тамних сорти грожђа и другог воћа и поврћ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исуство сумпор диоксида антоцијани губе боју а при већим концентрацијама сумпор диоксида реакција је иреверзиби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142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Box 24"/>
          <p:cNvSpPr/>
          <p:nvPr/>
        </p:nvSpPr>
        <p:spPr>
          <a:xfrm>
            <a:off x="468360" y="1844640"/>
            <a:ext cx="8136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ШЕНИЛА И КАРМИНСКА КИСЕ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вени инсекти изоловани из инсеката породиц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ccido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М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д тамно браон боје, карамел има и карактеристичан укус и мир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ја се карамелизацијом глукозе, сахарозе и других угље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атних прекурс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диторски производи, ликери, фармацеутски произво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151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152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Box 24"/>
          <p:cNvSpPr/>
          <p:nvPr/>
        </p:nvSpPr>
        <p:spPr>
          <a:xfrm>
            <a:off x="468360" y="1928880"/>
            <a:ext cx="81360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РОФ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и пигмент лишћа биља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зелена боја незрелих плод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БОФЛАВ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 се као боја жуто-наранџасте нијан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се додаје као боја а не као витамин, обавезно је да се и декларише као бо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162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24"/>
          <p:cNvSpPr/>
          <p:nvPr/>
        </p:nvSpPr>
        <p:spPr>
          <a:xfrm>
            <a:off x="468360" y="192888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нтетске бој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синтетска хемијска једињења, примењена у малим количинама могу да обоје хра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тске боје се деле на: боје растворљиве у води, боје растворљиве у мастима и боје намењене за бојење спољашњих површина х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е се појединачно и у комбинациј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о једињења (жуте, оранж и мрке нијансе); триарилметански деривати (зелене и плаве нијансе); ксантене (црвене нијансе) и индиго боје (плаве нијанс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172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TextBox 24"/>
          <p:cNvSpPr/>
          <p:nvPr/>
        </p:nvSpPr>
        <p:spPr>
          <a:xfrm>
            <a:off x="468360" y="1928880"/>
            <a:ext cx="8136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 која могу да спрече или успоре процес аутооксидације масти и уља и тиме продужавају њихову трајност, као и трајност прехрамбених производа који садрже маси и у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ују у малим количинама, не мењају мирис и укус, стабилни су на температури обраде х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су токсични и не дају токсичне производе приликом обраде х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181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182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Box 24"/>
          <p:cNvSpPr/>
          <p:nvPr/>
        </p:nvSpPr>
        <p:spPr>
          <a:xfrm>
            <a:off x="468360" y="2138400"/>
            <a:ext cx="813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принципу испољавања антиоксидантног дејства деле се на супстанце које реагују са слободним радикалима и редукујуће аген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и и синтетски антиоксидан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3"/>
          <p:cNvSpPr/>
          <p:nvPr/>
        </p:nvSpPr>
        <p:spPr>
          <a:xfrm>
            <a:off x="0" y="-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191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192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Box 24"/>
          <p:cNvSpPr/>
          <p:nvPr/>
        </p:nvSpPr>
        <p:spPr>
          <a:xfrm>
            <a:off x="468360" y="1928880"/>
            <a:ext cx="813600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храни могу бити присутна једињења која природно имају антиоксидантна својства, али се она означавају као фитохемикалије и не убрајају се у адити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ФЕР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јају се из природних производа као што су уље соје и кукуруза, пшеничне и овсене кл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нолне структуре токоферола стабилизују слободне радика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3"/>
          <p:cNvSpPr/>
          <p:nvPr/>
        </p:nvSpPr>
        <p:spPr>
          <a:xfrm>
            <a:off x="3851280" y="1268280"/>
            <a:ext cx="39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родни антиоксидан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20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Box 24"/>
          <p:cNvSpPr/>
          <p:nvPr/>
        </p:nvSpPr>
        <p:spPr>
          <a:xfrm>
            <a:off x="468360" y="1928880"/>
            <a:ext cx="81360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КОРБИНСКА КИСЕ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 киселина и њој сродне супстанце имају нижи редокс потенцијал од компоненти које штите и зато се лакше и брже оксиду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ТРАКТ РУЗМА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оксидативно деловање је резултат присуства фенолних киселина, дитерпена, тритерпена и других супстан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21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Box 24"/>
          <p:cNvSpPr/>
          <p:nvPr/>
        </p:nvSpPr>
        <p:spPr>
          <a:xfrm>
            <a:off x="468360" y="1844640"/>
            <a:ext cx="8136000" cy="44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ри галне киселине: пропил-галат, октил-галат, додецил-гал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ИЛ-ХИДРОКСИАНИЗ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ан је на температурама при којима се врши обрада х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ИЛ-ХИДРОКСИ ТОЛУ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патокарциногено и хеморагично дело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3"/>
          <p:cNvSpPr/>
          <p:nvPr/>
        </p:nvSpPr>
        <p:spPr>
          <a:xfrm>
            <a:off x="3924360" y="1268280"/>
            <a:ext cx="46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нтетски антиоксидан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223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224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Box 24"/>
          <p:cNvSpPr/>
          <p:nvPr/>
        </p:nvSpPr>
        <p:spPr>
          <a:xfrm>
            <a:off x="468360" y="1928880"/>
            <a:ext cx="8136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ервирање хране означава поступке којима се продужавају трајност и квалитет произ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ерванси су супстанце дефинисаног хемијског састава које могу да спрече или успоре развој микроорганизама и/или спрече раст патогених микроорганиз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ерванси се могу поделити на липофилне (сорбинска киселина и њене соли, бензоева киселина и њене соли и естри) и хидрофилне (нитрати, нитрити и сулфи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-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52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Box 24"/>
          <p:cNvSpPr/>
          <p:nvPr/>
        </p:nvSpPr>
        <p:spPr>
          <a:xfrm>
            <a:off x="468360" y="1928880"/>
            <a:ext cx="835164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итиви су супстанце које се не користе као намирнице, нити представљају карактеристичне састојке намирн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ју се из технолошких разлога у току производње, прераде, припреме, обраде, паковања, транспорта или чувања, при чему саме директно или индиректно постају састојци намирница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x Alimentariu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НЕ СМЕЈУ ДА МАСКИРАЈУ ЛОШ КВАЛИТЕТ СИРОВИНА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234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Box 24"/>
          <p:cNvSpPr/>
          <p:nvPr/>
        </p:nvSpPr>
        <p:spPr>
          <a:xfrm>
            <a:off x="395280" y="1928880"/>
            <a:ext cx="8209080" cy="52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БИНСКА КИСЕ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орава раст плесни и кваса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рганизму се разлаже на угљендиоксид и в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 се у млечним производима, мајонезу, маргарину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ЗОЕВА КИСЕ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микробна активност - недисосовани облик бензоеве кисел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 се у безалкохолним напицима, маргарину и сосов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243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244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TextBox 24"/>
          <p:cNvSpPr/>
          <p:nvPr/>
        </p:nvSpPr>
        <p:spPr>
          <a:xfrm>
            <a:off x="468360" y="1773360"/>
            <a:ext cx="8136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ТРАТИ И НИТРИ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трити инхибирају раст патогених бакте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риносе специфичном укусу и боји сухомеснатих произ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ЛФИ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 деловања је ослобађање сумпор диоксида из соли у киселој сред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 се у винима, освежавајућим напиц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лфити се у организму оксидују у сулфате и као такви излучу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253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254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Box 24"/>
          <p:cNvSpPr/>
          <p:nvPr/>
        </p:nvSpPr>
        <p:spPr>
          <a:xfrm>
            <a:off x="395280" y="2152800"/>
            <a:ext cx="835344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Е СА СЛАТКИМ УКУС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, грожђани шећер, шећерна репа, шећерна трска, кукурузни сируп, јаворов сируп, производи хидролизе скро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ћери не спадају у адити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на повезаност између уноса шећера и зубног каријес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263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264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TextBox 24"/>
          <p:cNvSpPr/>
          <p:nvPr/>
        </p:nvSpPr>
        <p:spPr>
          <a:xfrm>
            <a:off x="395280" y="1859040"/>
            <a:ext cx="835344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ЋЕРНИ АЛКОХ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битол, манитол, изомалт, ксилитол, еритрит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итичка редукција одговарајућих шећ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болизам независан од инсу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 за особе оболеле од дијабетеса и за оралну хигиј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шећера” или „не изазивају каријес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273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274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Box 24"/>
          <p:cNvSpPr/>
          <p:nvPr/>
        </p:nvSpPr>
        <p:spPr>
          <a:xfrm>
            <a:off x="395280" y="1859040"/>
            <a:ext cx="8353440" cy="26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ЗИВНИ ЗАСЛАЂИВ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о различити од шећера, изразито слатког укуса, са веома малом или практично без енергетске вре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бинација више заслађивача - маскирање накнадног ук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283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284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TextBox 24"/>
          <p:cNvSpPr/>
          <p:nvPr/>
        </p:nvSpPr>
        <p:spPr>
          <a:xfrm>
            <a:off x="3492360" y="1773360"/>
            <a:ext cx="35276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ЛАЂИВАЧКА МО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547640" y="2492280"/>
          <a:ext cx="6553440" cy="4038840"/>
        </p:xfrm>
        <a:graphic>
          <a:graphicData uri="http://schemas.openxmlformats.org/drawingml/2006/table">
            <a:tbl>
              <a:tblPr/>
              <a:tblGrid>
                <a:gridCol w="2184480"/>
                <a:gridCol w="1776600"/>
                <a:gridCol w="259236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ензивни заслађива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слађивачка мо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кнадни уку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cb08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хар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штар, горак, метал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парт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0-2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цесулфам 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ално-гор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крало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клама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умат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00-3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хесперидин Д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виол гликози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0-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т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000-13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294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295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TextBox 24"/>
          <p:cNvSpPr/>
          <p:nvPr/>
        </p:nvSpPr>
        <p:spPr>
          <a:xfrm>
            <a:off x="395280" y="1859040"/>
            <a:ext cx="835344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ЗИВНИ ЗАСЛАЂИВ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 унос - негативни здравствени ефек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партам - „садржи извор фенилаланина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цесулфам К - ниска акутна токсич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304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305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TextBox 24"/>
          <p:cNvSpPr/>
          <p:nvPr/>
        </p:nvSpPr>
        <p:spPr>
          <a:xfrm>
            <a:off x="395280" y="1859040"/>
            <a:ext cx="835344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ОСТ У ХР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ина су стабилни (нпр. сахарин, цикламати, сукралоза, неотам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партам - стабилан рН=3-5 (&lt; рН 3 хидролизује; &gt; рН 5 циклизу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ни заслађивачи или се додају у храну при индустријској прера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314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315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TextBox 24"/>
          <p:cNvSpPr/>
          <p:nvPr/>
        </p:nvSpPr>
        <p:spPr>
          <a:xfrm>
            <a:off x="468360" y="192888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ЛГАТО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лгатори омогућавају стабилност емулзија, формирање и одржавање хомогених мешавина две или више фаза које се не мешај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ње површинског напона између ф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ски/нејонски емулгато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лгатори природног порекла – агар, алгинска киселина, караген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3"/>
          <p:cNvSpPr/>
          <p:nvPr/>
        </p:nvSpPr>
        <p:spPr>
          <a:xfrm>
            <a:off x="0" y="-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325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TextBox 24"/>
          <p:cNvSpPr/>
          <p:nvPr/>
        </p:nvSpPr>
        <p:spPr>
          <a:xfrm>
            <a:off x="179280" y="1928880"/>
            <a:ext cx="864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ЛГАТО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ификовани скробов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абилизатори, згушњивач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ивати целулоз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гушњивачи, емулгатори, стабилизатор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фосфа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згушњивачи, емулгатори, хумектанти, регулатори киселости, средства за дизање теста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62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Box 24"/>
          <p:cNvSpPr/>
          <p:nvPr/>
        </p:nvSpPr>
        <p:spPr>
          <a:xfrm>
            <a:off x="468360" y="192888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 да нека супстанца постане адитив мора да постоји технолошка потреба и добит за потрош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слов је такође да њихово присуство у храни не доводи потрошача у заблуду и да не представља ризик по здравље потрош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 би били одобрени за употребу адитиви морају проћи процес проце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екларацији је обавезно навођење присутног адитива (група, назив или Е број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334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335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TextBox 24"/>
          <p:cNvSpPr/>
          <p:nvPr/>
        </p:nvSpPr>
        <p:spPr>
          <a:xfrm>
            <a:off x="468360" y="217332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п специфичних састојака - комбинација чулних доживља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ивљај ароме (чулима) - није сразмеран количини једињења него особинама једињ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оме се деле на: природне, природно идентичне и синтет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344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345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TextBox 24"/>
          <p:cNvSpPr/>
          <p:nvPr/>
        </p:nvSpPr>
        <p:spPr>
          <a:xfrm>
            <a:off x="468360" y="1928880"/>
            <a:ext cx="82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е аро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оматичне супстан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оматични препар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оме термичког третм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оме д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феин (* 15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/L - „висок садржај кофеина”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у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354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355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Box 24"/>
          <p:cNvSpPr/>
          <p:nvPr/>
        </p:nvSpPr>
        <p:spPr>
          <a:xfrm>
            <a:off x="468360" y="1928880"/>
            <a:ext cx="828036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ЧИВАЧИ АР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тичу деловање већ присутних ар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појачивачи арома користе се глутаминска киселина и њене соли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, K, Ca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као и гуанилна киселина и њене соли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, K, C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соли инозинске кисели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, K, C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9"/>
          <p:cNvSpPr/>
          <p:nvPr/>
        </p:nvSpPr>
        <p:spPr>
          <a:xfrm rot="20111400">
            <a:off x="582480" y="2738520"/>
            <a:ext cx="789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ВАЛА НА ПАЖЊИ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72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Box 24"/>
          <p:cNvSpPr/>
          <p:nvPr/>
        </p:nvSpPr>
        <p:spPr>
          <a:xfrm>
            <a:off x="468360" y="1778040"/>
            <a:ext cx="813600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роцену адитива неопходно 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нтификација и карактериз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ци о процесу производње ади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ци о стабилности, рекцијама и судбини адитива у хр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ог технолошке потребе и предложена употре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ци из других држава о употреби ади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на изложености адити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и и токсиколошки пода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82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7" name=""/>
          <p:cNvGraphicFramePr/>
          <p:nvPr/>
        </p:nvGraphicFramePr>
        <p:xfrm>
          <a:off x="2268360" y="1197000"/>
          <a:ext cx="6096240" cy="56545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па адит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 бро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cb08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ј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-1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зерванс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0-2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оксидан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0-3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елине, регулатори кисел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27-3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гушњивачи, стабилизатори, емулгатори, емулгујуће соли, средства за желирање, хумектанти, средства за дизање теста, средства за учвршћавање, средства против згрудњавања, средства за повећање запреми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0-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јачивачи аро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20-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а против стварања пене, средства за глазирање, средства за дизање браш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00-9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пелен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30-9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слађив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50-9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ификовани скробов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&gt;</a:t>
                      </a:r>
                      <a:r>
                        <a:rPr b="1" lang="sr-R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14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92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Box 24"/>
          <p:cNvSpPr/>
          <p:nvPr/>
        </p:nvSpPr>
        <p:spPr>
          <a:xfrm>
            <a:off x="468360" y="192888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је оправдана употреб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е се додају храни како би се надоместила природна боја намирница која се изгубила при процесима прераде и складиштења, да би се смањиле варијације у серији, да би се намирницама које немају природну боју дао привлачнији изгл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алкохолни напици, кондиторски производи, дезерти, пекарски производи, сос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е (порекло): природне и синтет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102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Box 24"/>
          <p:cNvSpPr/>
          <p:nvPr/>
        </p:nvSpPr>
        <p:spPr>
          <a:xfrm>
            <a:off x="468360" y="1928880"/>
            <a:ext cx="813600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родне бој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аротеноиди, антоцијани, кошенила, карамел, хлорофил, рибофлав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ОТЕНОИ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отени (угљоводоници) и ксантофили (оксидовани дерива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јају је се екстракцијом из биљака и ал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те, наранџасте и црвене нијансе бо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0" y="-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112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Box 24"/>
          <p:cNvSpPr/>
          <p:nvPr/>
        </p:nvSpPr>
        <p:spPr>
          <a:xfrm>
            <a:off x="468360" y="1928880"/>
            <a:ext cx="81360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КОП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но црвена уљана теч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ја се екстракцијом из црвеног парадајза или хемијском синтез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алкохолни ароматизовани напи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ише изложена деца предшколског и школског узр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122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TextBox 24"/>
          <p:cNvSpPr/>
          <p:nvPr/>
        </p:nvSpPr>
        <p:spPr>
          <a:xfrm>
            <a:off x="468360" y="1920960"/>
            <a:ext cx="813600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САНТОФ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ју оксидацијом карот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 алкохолну, алдехидну, кето или карбоксилну груп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теин (лишће многих биљака, жуманце), кантаксантин, екстракт паприке богат капсантином и капсоруби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то екстракт, биксин и норбиксин су жути пигменти изоловани из спољашњег омотача семена анато др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0T11:26:47Z</dcterms:created>
  <dc:creator>Dusan</dc:creator>
  <dc:description/>
  <dc:language>en-US</dc:language>
  <cp:lastModifiedBy>Dusan Tomovic</cp:lastModifiedBy>
  <dcterms:modified xsi:type="dcterms:W3CDTF">2020-09-16T21:19:38Z</dcterms:modified>
  <cp:revision>497</cp:revision>
  <dc:subject/>
  <dc:title>Slide 1</dc:title>
</cp:coreProperties>
</file>